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BAC-45B2-4311-A6D7-33F53A9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EBF-3B4F-45EB-BFAB-6D3F0D8D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DCC-3A06-4832-9823-606FA250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15-E9F3-470B-B7F2-9861E61B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410-2B2C-459F-A6BA-28638A3B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3A2-E6A1-480A-96DB-D56B556F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754-C9F2-4F28-ACFE-86DE273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941-20E1-4FA4-982D-B3D157E5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71E-5A82-4C01-BE4D-27B0827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B20-98A4-4218-9527-E09D5B7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65F-390F-48ED-A0A7-CE3028DE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E6A-C389-46AB-8A03-CA6F527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BF1-192E-44EB-ACD7-4F77778C0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15920"/>
            <a:ext cx="65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agram 1: Pert chart of first 9 months of PhD postgraduat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5960" y="1341360"/>
            <a:ext cx="7626960" cy="5349600"/>
            <a:chOff x="615960" y="1341360"/>
            <a:chExt cx="7626960" cy="5349600"/>
          </a:xfrm>
        </p:grpSpPr>
        <p:sp>
          <p:nvSpPr>
            <p:cNvPr id="43" name=""/>
            <p:cNvSpPr/>
            <p:nvPr/>
          </p:nvSpPr>
          <p:spPr>
            <a:xfrm>
              <a:off x="904680" y="25794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20680" y="34430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15960" y="3155760"/>
              <a:ext cx="522000" cy="577800"/>
              <a:chOff x="615960" y="3155760"/>
              <a:chExt cx="522000" cy="577800"/>
            </a:xfrm>
          </p:grpSpPr>
          <p:sp>
            <p:nvSpPr>
              <p:cNvPr id="46" name=""/>
              <p:cNvSpPr/>
              <p:nvPr/>
            </p:nvSpPr>
            <p:spPr>
              <a:xfrm>
                <a:off x="620640" y="3311280"/>
                <a:ext cx="515880" cy="288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18840" y="3155760"/>
                <a:ext cx="262080" cy="12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3155760"/>
                <a:ext cx="261720" cy="12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5960" y="3603240"/>
                <a:ext cx="261720" cy="13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1200" y="3603240"/>
                <a:ext cx="262080" cy="13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552680" y="3155760"/>
              <a:ext cx="521640" cy="577800"/>
              <a:chOff x="1552680" y="3155760"/>
              <a:chExt cx="521640" cy="57780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552680" y="3155760"/>
                <a:ext cx="521640" cy="577800"/>
                <a:chOff x="1552680" y="3155760"/>
                <a:chExt cx="521640" cy="5778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557000" y="3311280"/>
                  <a:ext cx="515520" cy="28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555560" y="3155760"/>
                  <a:ext cx="261720" cy="130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812600" y="3155760"/>
                  <a:ext cx="261720" cy="130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552680" y="3603600"/>
                  <a:ext cx="261720" cy="1299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7920" y="3603600"/>
                  <a:ext cx="261720" cy="1299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752480" y="3186000"/>
                  <a:ext cx="1836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643400" y="3251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502000" y="3155760"/>
              <a:ext cx="576000" cy="57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34430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7400" y="3082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840" y="35366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81120" y="3103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0240" y="3095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3000" y="34239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7760" y="34430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73400" y="1715760"/>
              <a:ext cx="1941480" cy="14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551040" y="3076200"/>
              <a:ext cx="534960" cy="649440"/>
              <a:chOff x="3551040" y="3076200"/>
              <a:chExt cx="534960" cy="6494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3563640" y="3147840"/>
                <a:ext cx="522360" cy="577800"/>
                <a:chOff x="3563640" y="3147840"/>
                <a:chExt cx="522360" cy="577800"/>
              </a:xfrm>
            </p:grpSpPr>
            <p:grpSp>
              <p:nvGrpSpPr>
                <p:cNvPr id="71" name=""/>
                <p:cNvGrpSpPr/>
                <p:nvPr/>
              </p:nvGrpSpPr>
              <p:grpSpPr>
                <a:xfrm>
                  <a:off x="3563640" y="3147840"/>
                  <a:ext cx="522360" cy="577800"/>
                  <a:chOff x="3563640" y="3147840"/>
                  <a:chExt cx="522360" cy="57780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3568320" y="3303360"/>
                    <a:ext cx="51588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566880" y="314784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823920" y="314784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563640" y="359568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819240" y="359568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763800" y="3178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>
                  <a:off x="3689640" y="3239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551040" y="30841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3400" y="307620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510080" y="3084480"/>
              <a:ext cx="558360" cy="640440"/>
              <a:chOff x="4510080" y="3084480"/>
              <a:chExt cx="558360" cy="6404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546800" y="3147840"/>
                <a:ext cx="521640" cy="577080"/>
                <a:chOff x="4546800" y="3147840"/>
                <a:chExt cx="521640" cy="57708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4546800" y="3147840"/>
                  <a:ext cx="521640" cy="577080"/>
                  <a:chOff x="4546800" y="3147840"/>
                  <a:chExt cx="521640" cy="577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4551120" y="3303000"/>
                    <a:ext cx="515520" cy="28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549680" y="314784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806720" y="314784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546800" y="3595320"/>
                    <a:ext cx="26172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802040" y="3595320"/>
                    <a:ext cx="26172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746600" y="3177720"/>
                    <a:ext cx="18360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4672440" y="32392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0080" y="308448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89440" y="308448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073400" y="2508120"/>
              <a:ext cx="1582920" cy="63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514680" y="1341360"/>
              <a:ext cx="546120" cy="629280"/>
              <a:chOff x="3514680" y="1341360"/>
              <a:chExt cx="546120" cy="62928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538440" y="1393560"/>
                <a:ext cx="522360" cy="577080"/>
                <a:chOff x="3538440" y="1393560"/>
                <a:chExt cx="522360" cy="57708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3538440" y="1393560"/>
                  <a:ext cx="522360" cy="577080"/>
                  <a:chOff x="3538440" y="1393560"/>
                  <a:chExt cx="522360" cy="57708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3543120" y="1548720"/>
                    <a:ext cx="515880" cy="28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541680" y="13935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798720" y="13935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38440" y="1841040"/>
                    <a:ext cx="26208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94040" y="1841040"/>
                    <a:ext cx="26208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738600" y="1423440"/>
                    <a:ext cx="18396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3664440" y="14835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3514680" y="134136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67040" y="134136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28720" y="2215800"/>
              <a:ext cx="546120" cy="639720"/>
              <a:chOff x="3528720" y="2215800"/>
              <a:chExt cx="546120" cy="6397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3552480" y="2277720"/>
                <a:ext cx="522360" cy="577800"/>
                <a:chOff x="3552480" y="2277720"/>
                <a:chExt cx="522360" cy="57780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3552480" y="2277720"/>
                  <a:ext cx="522360" cy="577800"/>
                  <a:chOff x="3552480" y="2277720"/>
                  <a:chExt cx="522360" cy="5778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557160" y="2433240"/>
                    <a:ext cx="51588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55720" y="227772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12760" y="227772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552480" y="27255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808080" y="27255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752640" y="23079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3678480" y="2368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3528720" y="221580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82520" y="22255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111480" y="34527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510160" y="3087360"/>
              <a:ext cx="580680" cy="655920"/>
              <a:chOff x="5510160" y="3087360"/>
              <a:chExt cx="580680" cy="6559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5532480" y="3165480"/>
                <a:ext cx="521280" cy="577800"/>
                <a:chOff x="5532480" y="3165480"/>
                <a:chExt cx="521280" cy="5778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5532480" y="3165480"/>
                  <a:ext cx="521280" cy="577800"/>
                  <a:chOff x="5532480" y="3165480"/>
                  <a:chExt cx="521280" cy="5778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5536800" y="3321000"/>
                    <a:ext cx="51516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5535360" y="3165480"/>
                    <a:ext cx="26136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792400" y="3165480"/>
                    <a:ext cx="26136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532480" y="3613320"/>
                    <a:ext cx="26136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787720" y="3613320"/>
                    <a:ext cx="26136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732280" y="3195720"/>
                    <a:ext cx="18360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5657400" y="32572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5510160" y="31003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11840" y="3246120"/>
                <a:ext cx="1836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0080" y="308736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492600" y="3109680"/>
              <a:ext cx="570240" cy="642960"/>
              <a:chOff x="6492600" y="3109680"/>
              <a:chExt cx="570240" cy="6429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514920" y="3174840"/>
                <a:ext cx="522360" cy="577800"/>
                <a:chOff x="6514920" y="3174840"/>
                <a:chExt cx="522360" cy="5778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514920" y="3174840"/>
                  <a:ext cx="522360" cy="577800"/>
                  <a:chOff x="6514920" y="3174840"/>
                  <a:chExt cx="522360" cy="5778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519600" y="3330360"/>
                    <a:ext cx="51588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518160" y="317484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775200" y="317484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514920" y="362268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770520" y="362268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715080" y="3205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>
                  <a:off x="6634080" y="32922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6492600" y="31222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42080" y="31096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15960" y="2003400"/>
              <a:ext cx="576360" cy="57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50840" y="17874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50480" y="243504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90120" y="373212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T=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6080" y="286200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=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529760" y="2866680"/>
              <a:ext cx="713160" cy="1137600"/>
              <a:chOff x="7529760" y="2866680"/>
              <a:chExt cx="713160" cy="1137600"/>
            </a:xfrm>
          </p:grpSpPr>
          <p:sp>
            <p:nvSpPr>
              <p:cNvPr id="150" name=""/>
              <p:cNvSpPr/>
              <p:nvPr/>
            </p:nvSpPr>
            <p:spPr>
              <a:xfrm>
                <a:off x="7557840" y="3135240"/>
                <a:ext cx="576360" cy="576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29760" y="369720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T=2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33360" y="2866680"/>
                <a:ext cx="7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T=2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663640" y="585288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00360" y="585288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76680" y="5316120"/>
              <a:ext cx="108108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232320" y="6035040"/>
              <a:ext cx="12970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6680" y="6179760"/>
              <a:ext cx="10810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111040" y="5467320"/>
              <a:ext cx="569880" cy="641880"/>
              <a:chOff x="2111040" y="5467320"/>
              <a:chExt cx="569880" cy="641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28680" y="5532120"/>
                <a:ext cx="521640" cy="577080"/>
                <a:chOff x="2128680" y="5532120"/>
                <a:chExt cx="521640" cy="5770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28680" y="5532120"/>
                  <a:ext cx="521640" cy="577080"/>
                  <a:chOff x="2128680" y="5532120"/>
                  <a:chExt cx="521640" cy="5770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2133000" y="5687280"/>
                    <a:ext cx="515520" cy="28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131560" y="553212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388600" y="553212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128680" y="5979600"/>
                    <a:ext cx="26172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383920" y="5979600"/>
                    <a:ext cx="261720" cy="12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328480" y="5562000"/>
                    <a:ext cx="18360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2212920" y="56556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2111040" y="547200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60160" y="54673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079440" y="5492520"/>
              <a:ext cx="555480" cy="646200"/>
              <a:chOff x="3079440" y="5492520"/>
              <a:chExt cx="555480" cy="6462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084120" y="5560920"/>
                <a:ext cx="522360" cy="577800"/>
                <a:chOff x="3084120" y="5560920"/>
                <a:chExt cx="522360" cy="57780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3084120" y="5560920"/>
                  <a:ext cx="522360" cy="577800"/>
                  <a:chOff x="3084120" y="5560920"/>
                  <a:chExt cx="522360" cy="577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3088800" y="5716440"/>
                    <a:ext cx="51588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087360" y="556092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344400" y="556092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084120" y="60087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39720" y="600876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284280" y="55911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3149640" y="5655960"/>
                  <a:ext cx="43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3079440" y="54925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14160" y="54925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990600" y="5491080"/>
              <a:ext cx="581040" cy="652320"/>
              <a:chOff x="3990600" y="5491080"/>
              <a:chExt cx="581040" cy="6523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014360" y="5565600"/>
                <a:ext cx="521640" cy="577800"/>
                <a:chOff x="4014360" y="5565600"/>
                <a:chExt cx="521640" cy="57780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4014360" y="5565600"/>
                  <a:ext cx="521640" cy="577800"/>
                  <a:chOff x="4014360" y="5565600"/>
                  <a:chExt cx="521640" cy="577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018680" y="5721120"/>
                    <a:ext cx="51552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017240" y="5565600"/>
                    <a:ext cx="26172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274280" y="5565600"/>
                    <a:ext cx="26172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014360" y="601344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269600" y="601344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14160" y="5595840"/>
                    <a:ext cx="18360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4046040" y="5670360"/>
                  <a:ext cx="43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990600" y="55036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250880" y="54910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678280" y="4949640"/>
              <a:ext cx="562320" cy="636120"/>
              <a:chOff x="5678280" y="4949640"/>
              <a:chExt cx="562320" cy="636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681880" y="5007960"/>
                <a:ext cx="521640" cy="577800"/>
                <a:chOff x="5681880" y="5007960"/>
                <a:chExt cx="521640" cy="57780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5681880" y="5007960"/>
                  <a:ext cx="521640" cy="577800"/>
                  <a:chOff x="5681880" y="5007960"/>
                  <a:chExt cx="521640" cy="577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686200" y="5163480"/>
                    <a:ext cx="51552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684760" y="5007960"/>
                    <a:ext cx="26172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941800" y="5007960"/>
                    <a:ext cx="26172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681880" y="545580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37120" y="5455800"/>
                    <a:ext cx="26172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881680" y="5038200"/>
                    <a:ext cx="18360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5721480" y="5112360"/>
                  <a:ext cx="43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5678280" y="49496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19840" y="49496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659200" y="6035400"/>
              <a:ext cx="576360" cy="655560"/>
              <a:chOff x="5659200" y="6035400"/>
              <a:chExt cx="576360" cy="6555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5683320" y="6113160"/>
                <a:ext cx="522360" cy="577800"/>
                <a:chOff x="5683320" y="6113160"/>
                <a:chExt cx="522360" cy="57780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5683320" y="6113160"/>
                  <a:ext cx="522360" cy="577800"/>
                  <a:chOff x="5683320" y="6113160"/>
                  <a:chExt cx="522360" cy="5778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5688000" y="6268680"/>
                    <a:ext cx="51588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686560" y="611316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943600" y="6113160"/>
                    <a:ext cx="26208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683320" y="656100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938920" y="6561000"/>
                    <a:ext cx="262080" cy="12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883480" y="61434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5718960" y="6219720"/>
                  <a:ext cx="43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659200" y="60415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14800" y="603540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501680" y="5316480"/>
              <a:ext cx="738360" cy="1153080"/>
              <a:chOff x="7501680" y="5316480"/>
              <a:chExt cx="738360" cy="1153080"/>
            </a:xfrm>
          </p:grpSpPr>
          <p:sp>
            <p:nvSpPr>
              <p:cNvPr id="219" name=""/>
              <p:cNvSpPr/>
              <p:nvPr/>
            </p:nvSpPr>
            <p:spPr>
              <a:xfrm>
                <a:off x="7529760" y="5603760"/>
                <a:ext cx="576000" cy="575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0480" y="5316480"/>
                <a:ext cx="7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F=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01680" y="616248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F=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111640" y="34304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1200" y="34430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44320" y="3659040"/>
              <a:ext cx="532908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5040" y="56037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64000" y="933480"/>
            <a:ext cx="2087640" cy="911160"/>
            <a:chOff x="5364000" y="933480"/>
            <a:chExt cx="2087640" cy="911160"/>
          </a:xfrm>
        </p:grpSpPr>
        <p:sp>
          <p:nvSpPr>
            <p:cNvPr id="227" name=""/>
            <p:cNvSpPr/>
            <p:nvPr/>
          </p:nvSpPr>
          <p:spPr>
            <a:xfrm>
              <a:off x="5364000" y="933480"/>
              <a:ext cx="2071440" cy="89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6600" y="1235160"/>
              <a:ext cx="20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8680" y="1557360"/>
              <a:ext cx="20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62360" y="9334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33920" y="15462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76600" y="947880"/>
              <a:ext cx="10666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Earliest 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3120" y="954000"/>
              <a:ext cx="82548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Latest 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65560" y="1279440"/>
              <a:ext cx="1282680" cy="2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Task Nu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76600" y="1568520"/>
              <a:ext cx="91440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8200" y="1582560"/>
              <a:ext cx="63972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Flo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524720" y="981000"/>
            <a:ext cx="93996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1120" y="1916280"/>
            <a:ext cx="367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S = Earliest start time, LS = Latest start time,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 = Earliest time milestone, LT = Latest time milestone,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F = Earliest finish time project, LF = Latest finish time projec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85880" y="620640"/>
            <a:ext cx="187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end for PERT ch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2:52:53Z</dcterms:created>
  <dc:creator>Catherine Clarke</dc:creator>
  <dc:description/>
  <dc:language>en-US</dc:language>
  <cp:lastModifiedBy>sunhea</cp:lastModifiedBy>
  <dcterms:modified xsi:type="dcterms:W3CDTF">2007-06-18T18:46:52Z</dcterms:modified>
  <cp:revision>12</cp:revision>
  <dc:subject/>
  <dc:title>Slide 1</dc:title>
</cp:coreProperties>
</file>